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000" y="-76680"/>
            <a:ext cx="87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5880" y="1219320"/>
            <a:ext cx="85518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5880" y="3944880"/>
            <a:ext cx="85518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000" y="-76680"/>
            <a:ext cx="87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5880" y="1219320"/>
            <a:ext cx="417312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8160" y="1219320"/>
            <a:ext cx="417312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5880" y="3944880"/>
            <a:ext cx="417312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8160" y="3944880"/>
            <a:ext cx="417312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000" y="-76680"/>
            <a:ext cx="87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5880" y="1219320"/>
            <a:ext cx="275328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7040" y="1219320"/>
            <a:ext cx="275328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8560" y="1219320"/>
            <a:ext cx="275328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5880" y="3944880"/>
            <a:ext cx="275328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7040" y="3944880"/>
            <a:ext cx="275328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8560" y="3944880"/>
            <a:ext cx="275328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50DF-EE54-4F08-B01D-EF6DFE450E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000" y="-76680"/>
            <a:ext cx="87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5880" y="1219320"/>
            <a:ext cx="85518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1C1A-B280-44D1-B0AC-7537E0836F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000" y="-76680"/>
            <a:ext cx="87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5880" y="1219320"/>
            <a:ext cx="855180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04020-D40E-4E3C-AA01-A967B9A5CA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000" y="-76680"/>
            <a:ext cx="87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5880" y="1219320"/>
            <a:ext cx="417312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8160" y="1219320"/>
            <a:ext cx="417312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B62A-74D3-48AD-BB67-8EABD5CB81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000" y="-76680"/>
            <a:ext cx="87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DD78-BA2A-4742-B006-E760E074CE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000" y="-76680"/>
            <a:ext cx="87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D8357-2629-43D8-B9DA-690849045B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000" y="-76680"/>
            <a:ext cx="87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5880" y="1219320"/>
            <a:ext cx="417312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8160" y="1219320"/>
            <a:ext cx="417312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5880" y="3944880"/>
            <a:ext cx="417312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2AF60-62CC-4E9E-BE6B-9769021B3C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000" y="-76680"/>
            <a:ext cx="87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5880" y="1219320"/>
            <a:ext cx="85518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000" y="-76680"/>
            <a:ext cx="87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5880" y="1219320"/>
            <a:ext cx="417312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8160" y="1219320"/>
            <a:ext cx="417312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8160" y="3944880"/>
            <a:ext cx="417312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68A3-1C73-4B26-ACBF-4C05C709A9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000" y="-76680"/>
            <a:ext cx="87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5880" y="1219320"/>
            <a:ext cx="417312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8160" y="1219320"/>
            <a:ext cx="417312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5880" y="3944880"/>
            <a:ext cx="85518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8D37A-E9B9-4954-ACCB-EA6ED6A18E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000" y="-76680"/>
            <a:ext cx="87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5880" y="1219320"/>
            <a:ext cx="85518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5880" y="3944880"/>
            <a:ext cx="85518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F4FD-4A66-4E4A-AC84-28295C2834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000" y="-76680"/>
            <a:ext cx="87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5880" y="1219320"/>
            <a:ext cx="417312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8160" y="1219320"/>
            <a:ext cx="417312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5880" y="3944880"/>
            <a:ext cx="417312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8160" y="3944880"/>
            <a:ext cx="417312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DC5F2-51B7-47DE-878C-28C9983185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000" y="-76680"/>
            <a:ext cx="87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5880" y="1219320"/>
            <a:ext cx="275328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7040" y="1219320"/>
            <a:ext cx="275328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8560" y="1219320"/>
            <a:ext cx="275328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5880" y="3944880"/>
            <a:ext cx="275328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7040" y="3944880"/>
            <a:ext cx="275328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8560" y="3944880"/>
            <a:ext cx="275328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AF4F4-F2A9-4B36-9685-B203141B56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000" y="-76680"/>
            <a:ext cx="87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5880" y="1219320"/>
            <a:ext cx="855180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000" y="-76680"/>
            <a:ext cx="87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5880" y="1219320"/>
            <a:ext cx="417312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8160" y="1219320"/>
            <a:ext cx="417312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000" y="-76680"/>
            <a:ext cx="87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000" y="-76680"/>
            <a:ext cx="87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000" y="-76680"/>
            <a:ext cx="87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5880" y="1219320"/>
            <a:ext cx="417312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8160" y="1219320"/>
            <a:ext cx="417312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5880" y="3944880"/>
            <a:ext cx="417312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000" y="-76680"/>
            <a:ext cx="87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5880" y="1219320"/>
            <a:ext cx="417312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8160" y="1219320"/>
            <a:ext cx="417312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8160" y="3944880"/>
            <a:ext cx="417312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000" y="-76680"/>
            <a:ext cx="87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5880" y="1219320"/>
            <a:ext cx="417312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8160" y="1219320"/>
            <a:ext cx="417312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5880" y="3944880"/>
            <a:ext cx="8551800" cy="24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000" y="-76680"/>
            <a:ext cx="87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5880" y="1219320"/>
            <a:ext cx="855180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9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628560" indent="-17136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2" marL="1085760" indent="-1713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9560" y="6613560"/>
            <a:ext cx="829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60AD-C9B0-42C6-8E92-3CB19D112EE1}" type="slidenum">
              <a:rPr b="1" lang="en-US" sz="1000" spc="-1" strike="noStrike">
                <a:solidFill>
                  <a:srgbClr val="33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613560"/>
            <a:ext cx="8256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037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91960" y="914400"/>
            <a:ext cx="839484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30007" r="30857" b="23794"/>
          <a:stretch/>
        </p:blipFill>
        <p:spPr>
          <a:xfrm>
            <a:off x="-152280" y="-123840"/>
            <a:ext cx="9448560" cy="708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560" y="2304720"/>
            <a:ext cx="8442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9760" y="6662880"/>
            <a:ext cx="5657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1"/>
          </p:nvPr>
        </p:nvSpPr>
        <p:spPr>
          <a:xfrm>
            <a:off x="3611520" y="6617520"/>
            <a:ext cx="19051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8093-96B3-44A9-B693-31401C61F9C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437"/>
              </a:spcBef>
              <a:buClr>
                <a:srgbClr val="000066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6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330066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374"/>
              </a:spcBef>
              <a:buClr>
                <a:srgbClr val="330066"/>
              </a:buClr>
              <a:buFont typeface="Verdana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330066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37"/>
              </a:spcBef>
              <a:buClr>
                <a:srgbClr val="330066"/>
              </a:buClr>
              <a:buFont typeface="Verdana"/>
              <a:buChar char="−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3300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3300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27001-online.com/" TargetMode="External"/><Relationship Id="rId2" Type="http://schemas.openxmlformats.org/officeDocument/2006/relationships/hyperlink" Target="http://www.sans.org/" TargetMode="External"/><Relationship Id="rId3" Type="http://schemas.openxmlformats.org/officeDocument/2006/relationships/hyperlink" Target="http://www.securityfocus.com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294920"/>
            <a:ext cx="8493120" cy="2133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200" bIns="43200" anchor="b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просы разработки политик информационной безопас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4114440"/>
            <a:ext cx="747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кандер Конеев,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loit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ск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ссоциация Российских Бан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прель 20</a:t>
            </a:r>
            <a:r>
              <a:rPr b="1" lang="nl-BE" sz="1600" spc="-1" strike="noStrike">
                <a:solidFill>
                  <a:srgbClr val="ffffff"/>
                </a:solidFill>
                <a:latin typeface="Arial"/>
              </a:rPr>
              <a:t>, 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FE7CB-2189-404E-959A-D10CFA1572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0000" y="-76680"/>
            <a:ext cx="87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0066"/>
                </a:solidFill>
                <a:latin typeface="Arial"/>
              </a:rPr>
              <a:t>Путаница в терминологии...</a:t>
            </a:r>
            <a:endParaRPr b="0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5880" y="1219320"/>
            <a:ext cx="855180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85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66"/>
                </a:solidFill>
                <a:latin typeface="Arial"/>
              </a:rPr>
              <a:t>Что называют Политикой безопасности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28560" indent="-171360">
              <a:lnSpc>
                <a:spcPct val="90000"/>
              </a:lnSpc>
              <a:spcBef>
                <a:spcPts val="561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66"/>
                </a:solidFill>
                <a:latin typeface="Arial"/>
              </a:rPr>
              <a:t>Корпоративную политику верхнего уровня (Концепцию)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28560" indent="-171360">
              <a:lnSpc>
                <a:spcPct val="90000"/>
              </a:lnSpc>
              <a:spcBef>
                <a:spcPts val="561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66"/>
                </a:solidFill>
                <a:latin typeface="Arial"/>
              </a:rPr>
              <a:t>Свод правил работы в конкретной информационной системе или направлении (Инструкцию). Примеры – Политика работы с электронной почтой, Парольная политика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28560" indent="-171360">
              <a:lnSpc>
                <a:spcPct val="90000"/>
              </a:lnSpc>
              <a:spcBef>
                <a:spcPts val="561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66"/>
                </a:solidFill>
                <a:latin typeface="Arial"/>
              </a:rPr>
              <a:t>Набор технических настроек информационного объекта (Конфигурацию). Примеры – Доменная политика, Политика межсетевого экрана.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0000" y="-76680"/>
            <a:ext cx="87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0066"/>
                </a:solidFill>
                <a:latin typeface="Arial"/>
              </a:rPr>
              <a:t>Англоязычные термины</a:t>
            </a:r>
            <a:endParaRPr b="0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5880" y="1219320"/>
            <a:ext cx="855180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85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66"/>
                </a:solidFill>
                <a:latin typeface="Arial"/>
              </a:rPr>
              <a:t>В интерпретации методических материалов по безопасности (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Hal Tipton, CISSP guides</a:t>
            </a:r>
            <a:r>
              <a:rPr b="0" lang="ru-RU" sz="1800" spc="-1" strike="noStrike">
                <a:solidFill>
                  <a:srgbClr val="330066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28560" indent="-171360">
              <a:lnSpc>
                <a:spcPct val="90000"/>
              </a:lnSpc>
              <a:spcBef>
                <a:spcPts val="561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  <a:ea typeface="굴림"/>
              </a:rPr>
              <a:t>Policy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  <a:ea typeface="굴림"/>
              </a:rPr>
              <a:t> </a:t>
            </a:r>
            <a:r>
              <a:rPr b="0" lang="ru-RU" sz="1800" spc="-1" strike="noStrike">
                <a:solidFill>
                  <a:srgbClr val="330066"/>
                </a:solidFill>
                <a:latin typeface="Arial"/>
              </a:rPr>
              <a:t>– принципиальные положения, озвученное послание высшего руководства предприятия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28560" indent="-171360">
              <a:lnSpc>
                <a:spcPct val="90000"/>
              </a:lnSpc>
              <a:spcBef>
                <a:spcPts val="561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  <a:ea typeface="굴림"/>
              </a:rPr>
              <a:t>Standards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  <a:ea typeface="굴림"/>
              </a:rPr>
              <a:t> </a:t>
            </a:r>
            <a:r>
              <a:rPr b="0" lang="ru-RU" sz="1800" spc="-1" strike="noStrike">
                <a:solidFill>
                  <a:srgbClr val="330066"/>
                </a:solidFill>
                <a:latin typeface="Arial"/>
              </a:rPr>
              <a:t>– обязательные правила, регламентирующие деятельность того или иного направления/системы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28560" indent="-171360">
              <a:lnSpc>
                <a:spcPct val="90000"/>
              </a:lnSpc>
              <a:spcBef>
                <a:spcPts val="561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  <a:ea typeface="굴림"/>
              </a:rPr>
              <a:t>Baseline</a:t>
            </a:r>
            <a:r>
              <a:rPr b="0" lang="ru-RU" sz="1800" spc="-1" strike="noStrike">
                <a:solidFill>
                  <a:srgbClr val="330066"/>
                </a:solidFill>
                <a:latin typeface="Arial"/>
              </a:rPr>
              <a:t> – минимальный требуемый уровень безопасности по данному направлению или системе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28560" indent="-171360">
              <a:lnSpc>
                <a:spcPct val="90000"/>
              </a:lnSpc>
              <a:spcBef>
                <a:spcPts val="561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  <a:ea typeface="굴림"/>
              </a:rPr>
              <a:t>Guidelines</a:t>
            </a:r>
            <a:r>
              <a:rPr b="0" lang="ru-RU" sz="1800" spc="-1" strike="noStrike">
                <a:solidFill>
                  <a:srgbClr val="330066"/>
                </a:solidFill>
                <a:latin typeface="Arial"/>
              </a:rPr>
              <a:t> – операционное руководство и рекомендации по обеспечению безопасности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28560" indent="-171360">
              <a:lnSpc>
                <a:spcPct val="90000"/>
              </a:lnSpc>
              <a:spcBef>
                <a:spcPts val="561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  <a:ea typeface="굴림"/>
              </a:rPr>
              <a:t>Procedures</a:t>
            </a:r>
            <a:r>
              <a:rPr b="0" lang="ru-RU" sz="1800" spc="-1" strike="noStrike">
                <a:solidFill>
                  <a:srgbClr val="330066"/>
                </a:solidFill>
                <a:latin typeface="Arial"/>
              </a:rPr>
              <a:t> – детальное руководство по обеспечению соответствия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000" y="-76680"/>
            <a:ext cx="87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0066"/>
                </a:solidFill>
                <a:latin typeface="Arial"/>
              </a:rPr>
              <a:t>Вариант иерархической структуры документов</a:t>
            </a:r>
            <a:endParaRPr b="0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5880" y="1219320"/>
            <a:ext cx="855180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85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66"/>
                </a:solidFill>
                <a:latin typeface="Arial"/>
              </a:rPr>
              <a:t>В практическом опыте реализации нормативов по безопасности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28560" indent="-171360">
              <a:lnSpc>
                <a:spcPct val="90000"/>
              </a:lnSpc>
              <a:spcBef>
                <a:spcPts val="561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Концепция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  <a:ea typeface="굴림"/>
              </a:rPr>
              <a:t> </a:t>
            </a:r>
            <a:r>
              <a:rPr b="0" lang="ru-RU" sz="1800" spc="-1" strike="noStrike">
                <a:solidFill>
                  <a:srgbClr val="330066"/>
                </a:solidFill>
                <a:latin typeface="Arial"/>
              </a:rPr>
              <a:t>– принципиальные основы функционирования информационной безопасности на предприятии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28560" indent="-171360">
              <a:lnSpc>
                <a:spcPct val="90000"/>
              </a:lnSpc>
              <a:spcBef>
                <a:spcPts val="561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Стандарты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  <a:ea typeface="굴림"/>
              </a:rPr>
              <a:t> </a:t>
            </a:r>
            <a:r>
              <a:rPr b="0" lang="ru-RU" sz="1800" spc="-1" strike="noStrike">
                <a:solidFill>
                  <a:srgbClr val="330066"/>
                </a:solidFill>
                <a:latin typeface="Arial"/>
              </a:rPr>
              <a:t>– что должно присутствовать или быть достигнуто на предприятии, чтобы соответствовать принципиальным основам Концепции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28560" indent="-171360">
              <a:lnSpc>
                <a:spcPct val="90000"/>
              </a:lnSpc>
              <a:spcBef>
                <a:spcPts val="561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Процедуры</a:t>
            </a:r>
            <a:r>
              <a:rPr b="0" lang="ru-RU" sz="1800" spc="-1" strike="noStrike">
                <a:solidFill>
                  <a:srgbClr val="330066"/>
                </a:solidFill>
                <a:latin typeface="Arial"/>
              </a:rPr>
              <a:t> – что должны делать или не делать сотрудники предприятия, чтобы соответствовать Стандартам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28560" indent="-171360">
              <a:lnSpc>
                <a:spcPct val="90000"/>
              </a:lnSpc>
              <a:spcBef>
                <a:spcPts val="561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Методы</a:t>
            </a:r>
            <a:r>
              <a:rPr b="0" lang="ru-RU" sz="1800" spc="-1" strike="noStrike">
                <a:solidFill>
                  <a:srgbClr val="330066"/>
                </a:solidFill>
                <a:latin typeface="Arial"/>
              </a:rPr>
              <a:t> – как выполнять Процедуры, детальное пояснение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28560" indent="-171360">
              <a:lnSpc>
                <a:spcPct val="90000"/>
              </a:lnSpc>
              <a:spcBef>
                <a:spcPts val="561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Аварийный план</a:t>
            </a:r>
            <a:r>
              <a:rPr b="0" lang="ru-RU" sz="1800" spc="-1" strike="noStrike">
                <a:solidFill>
                  <a:srgbClr val="330066"/>
                </a:solidFill>
                <a:latin typeface="Arial"/>
              </a:rPr>
              <a:t> – что и как делать, если случилась непредвиденная или угрожающая ситуация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000" y="-76680"/>
            <a:ext cx="87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0066"/>
                </a:solidFill>
                <a:latin typeface="Arial"/>
              </a:rPr>
              <a:t>Что должно быть в Концепции (Корпоративной Политике)</a:t>
            </a:r>
            <a:endParaRPr b="0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6240" y="1050840"/>
            <a:ext cx="8686800" cy="55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Что такое безопасность для предприятия и ее приоритеты?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787320" indent="-3301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Конфиденциальность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787320" indent="-3301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Целостность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787320" indent="-3301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Доступность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Определить взаимоотношения субъектов в области ИБ</a:t>
            </a: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787320" indent="-3301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Руководство предприятия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787320" indent="-3301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Бизнес-подразделения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787320" indent="-3301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Служба информационных технологий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787320" indent="-3301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Служба информационной безопсности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787320" indent="-3301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Объединяющий комитет (если есть)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787320" indent="-3301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Сопровождающие службы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78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787320" indent="-3301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Вышестоящие организации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787320" indent="-3301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Клиенты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787320" indent="-3301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Поставщики (отдельно - Аудиторы)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787320" indent="-3301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Партнеры (отдельно – банки-корреспонденты)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78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Обязательная часть (пп.6.1 и 6.2 Стандарта)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78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000" y="-76680"/>
            <a:ext cx="87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0066"/>
                </a:solidFill>
                <a:latin typeface="Arial"/>
              </a:rPr>
              <a:t>Чего не должно быть в Концепции (Корпоративной Политике)</a:t>
            </a:r>
            <a:endParaRPr b="0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6240" y="1050840"/>
            <a:ext cx="8686800" cy="55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66"/>
                </a:solidFill>
                <a:latin typeface="Arial"/>
              </a:rPr>
              <a:t>Деталей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787320" indent="-330120">
              <a:lnSpc>
                <a:spcPct val="90000"/>
              </a:lnSpc>
              <a:spcBef>
                <a:spcPts val="561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66"/>
                </a:solidFill>
                <a:latin typeface="Arial"/>
              </a:rPr>
              <a:t>То, что быстро меняется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787320" indent="-330120">
              <a:lnSpc>
                <a:spcPct val="90000"/>
              </a:lnSpc>
              <a:spcBef>
                <a:spcPts val="561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66"/>
                </a:solidFill>
                <a:latin typeface="Arial"/>
              </a:rPr>
              <a:t>Подробности и методики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66"/>
                </a:solidFill>
                <a:latin typeface="Arial"/>
              </a:rPr>
              <a:t>То, что не возможно сделать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787320" indent="-330120">
              <a:lnSpc>
                <a:spcPct val="90000"/>
              </a:lnSpc>
              <a:spcBef>
                <a:spcPts val="561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66"/>
                </a:solidFill>
                <a:latin typeface="Arial"/>
              </a:rPr>
              <a:t>Противодействие ПЭМИН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787320" indent="-330120">
              <a:lnSpc>
                <a:spcPct val="90000"/>
              </a:lnSpc>
              <a:spcBef>
                <a:spcPts val="561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66"/>
                </a:solidFill>
                <a:latin typeface="Arial"/>
              </a:rPr>
              <a:t>Аппаратные закладки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66"/>
                </a:solidFill>
                <a:latin typeface="Arial"/>
              </a:rPr>
              <a:t>Препятствия бизнесу и развитию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787320" indent="-330120">
              <a:lnSpc>
                <a:spcPct val="90000"/>
              </a:lnSpc>
              <a:spcBef>
                <a:spcPts val="561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66"/>
                </a:solidFill>
                <a:latin typeface="Arial"/>
              </a:rPr>
              <a:t>Условия работы после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  <a:ea typeface="굴림"/>
              </a:rPr>
              <a:t>IPO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78732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000" y="-76680"/>
            <a:ext cx="87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0066"/>
                </a:solidFill>
                <a:latin typeface="Arial"/>
              </a:rPr>
              <a:t>На что обратить внимание</a:t>
            </a:r>
            <a:endParaRPr b="0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6240" y="1050840"/>
            <a:ext cx="8686800" cy="55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Управление рисками</a:t>
            </a: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787320" indent="-3301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Внимательно читать Стандарт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Качество работы сторонних консультантов по подготовке концептуальных документов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787320" indent="-3301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Пример с коэффициентами значимости рисков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Интеграция между политиками отдельных систем</a:t>
            </a: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787320" indent="-3301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Пример борьбы с передачей пароля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Дополнительные механизмы безопасности</a:t>
            </a: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787320" indent="-3301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  <a:ea typeface="굴림"/>
              </a:rPr>
              <a:t>Mandatory vacation / rotation of duties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Следование сторонним стандартам</a:t>
            </a: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787320" indent="-3301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Политики и модели безопаности платежных и карточных систем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Систему оценки Службы ИБ</a:t>
            </a: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787320" indent="-3301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90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Ключевые индикаторы производительности </a:t>
            </a:r>
            <a:r>
              <a:rPr b="0" lang="en-US" sz="1600" spc="-1" strike="noStrike">
                <a:solidFill>
                  <a:srgbClr val="330066"/>
                </a:solidFill>
                <a:latin typeface="Arial"/>
                <a:ea typeface="굴림"/>
              </a:rPr>
              <a:t>(KPI)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000" y="-76680"/>
            <a:ext cx="87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0066"/>
                </a:solidFill>
                <a:latin typeface="Arial"/>
              </a:rPr>
              <a:t>Примеры</a:t>
            </a:r>
            <a:endParaRPr b="0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6240" y="1050840"/>
            <a:ext cx="8686800" cy="55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www.27001-online.com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www.sans.org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www.securityfocus.com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Сайты западных университетов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8:21:27Z</dcterms:created>
  <dc:creator>Makstman, Michael</dc:creator>
  <dc:description/>
  <dc:language>en-US</dc:language>
  <cp:lastModifiedBy>Deloitte &amp; Touche RCS</cp:lastModifiedBy>
  <dcterms:modified xsi:type="dcterms:W3CDTF">2006-04-20T10:31:10Z</dcterms:modified>
  <cp:revision>197</cp:revision>
  <dc:subject/>
  <dc:title>Privacy Imperative</dc:title>
</cp:coreProperties>
</file>